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28F-E53F-4937-B17B-0C52B1BD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C9D-57C4-4DAA-A65E-45F9588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B84-04DC-4127-9642-AA42ED4C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318-EDD8-430D-BFDE-B611ABF2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9D2-A107-4231-BB14-2ADC6DB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D59-3A0C-4DF1-AB9A-882523B0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2EF-C997-4DFB-9ECE-93764C7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EC-33B5-4F6A-84CE-F5865352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170-7C05-4329-B1F8-5847DE43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AD1-64EE-4537-99B8-F80A6BD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770-30BC-44B9-AFDC-7125281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DFE-06D5-4830-8702-33F0F60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1EFB-FEC4-41C1-8E92-DC4A04ED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7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Revo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nflict (Protestantism vs. Catholic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8,ooo were killed when Phillip II ordered the enforcement of laws against Prote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7 Netherland provinces in 1581, mostly 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2720" y="457200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Revolts in United Provinces of the Netherlands 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mada  (1588), unsuccessful attack o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3434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22440" y="623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164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ttack Eng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To prevent England from supporting the Dutch rebels, (2) from pursuing New World efforts and (3) the spread of Protestantism (Queen Eliza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Revolts in United Provinces of the Netherlands 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Armada  (1588), unsuccessful attack o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 instability – Inflation and drained treas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Economic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caused by huge imports of gold and silver from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axes on lower classes prevented the development of a midd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lds kept domestic prices high, so people brought foreign goods (trade imba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ly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440" y="217656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ing Philip II’s reign, Spain’s empire began to weaken.  What evidence supports this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88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895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590920"/>
            <a:ext cx="815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hilip II inherited had a marked impact on his decades as king of Spain.  Two important factor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ry (Spain) bound by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Netherlands: which financially supported the Spanish Empire’s foreign matters with their large shipping fleet and strong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9144000" cy="289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reco – painted saints &amp; martyrs; deeply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go Velazquez – painted portraits of royal family and cour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vantes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n Quix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irth of the modern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 Jesuit priests to convert Protestants all over Europe – winning parts of Germany, E. Europe &amp;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4956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d Catholic reformation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Jesuit priests to convert Protestants all over Europe – winning parts of Germany, E. Europe &amp;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Catholic reformation in Sp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vily supported the expansion of the Spanish Empire in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ccomplishments exemplify Philip II as an absolute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288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graphy of Philip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252520"/>
            <a:ext cx="6750720" cy="3304440"/>
            <a:chOff x="0" y="2252520"/>
            <a:chExt cx="6750720" cy="3304440"/>
          </a:xfrm>
        </p:grpSpPr>
        <p:cxnSp>
          <p:nvCxnSpPr>
            <p:cNvPr id="45" name="_s12305"/>
            <p:cNvCxnSpPr>
              <a:stCxn id="46" idx="1"/>
              <a:endCxn id="47" idx="2"/>
            </p:cNvCxnSpPr>
            <p:nvPr/>
          </p:nvCxnSpPr>
          <p:spPr>
            <a:xfrm rot="10800000">
              <a:off x="1798200" y="2734200"/>
              <a:ext cx="600120" cy="258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2300"/>
            <p:cNvCxnSpPr>
              <a:stCxn id="49" idx="1"/>
              <a:endCxn id="47" idx="2"/>
            </p:cNvCxnSpPr>
            <p:nvPr/>
          </p:nvCxnSpPr>
          <p:spPr>
            <a:xfrm rot="10800000">
              <a:off x="1798200" y="2734200"/>
              <a:ext cx="600120" cy="187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2299"/>
            <p:cNvCxnSpPr>
              <a:stCxn id="51" idx="1"/>
              <a:endCxn id="47" idx="2"/>
            </p:cNvCxnSpPr>
            <p:nvPr/>
          </p:nvCxnSpPr>
          <p:spPr>
            <a:xfrm rot="10800000">
              <a:off x="1798200" y="2734200"/>
              <a:ext cx="600120" cy="117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2298"/>
            <p:cNvCxnSpPr>
              <a:stCxn id="53" idx="1"/>
              <a:endCxn id="47" idx="2"/>
            </p:cNvCxnSpPr>
            <p:nvPr/>
          </p:nvCxnSpPr>
          <p:spPr>
            <a:xfrm rot="10800000">
              <a:off x="1798200" y="2734200"/>
              <a:ext cx="600120" cy="46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2294"/>
            <p:cNvSpPr/>
            <p:nvPr/>
          </p:nvSpPr>
          <p:spPr>
            <a:xfrm>
              <a:off x="0" y="2252520"/>
              <a:ext cx="3598200" cy="48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ves of Philip 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2295"/>
            <p:cNvSpPr/>
            <p:nvPr/>
          </p:nvSpPr>
          <p:spPr>
            <a:xfrm>
              <a:off x="2398680" y="29581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ia Manuela of Portug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2296"/>
            <p:cNvSpPr/>
            <p:nvPr/>
          </p:nvSpPr>
          <p:spPr>
            <a:xfrm>
              <a:off x="2398680" y="36637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y Tudor of Englan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2297"/>
            <p:cNvSpPr/>
            <p:nvPr/>
          </p:nvSpPr>
          <p:spPr>
            <a:xfrm>
              <a:off x="2398680" y="4368960"/>
              <a:ext cx="4352040" cy="48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izabeth of Valois (in France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2304"/>
            <p:cNvSpPr/>
            <p:nvPr/>
          </p:nvSpPr>
          <p:spPr>
            <a:xfrm>
              <a:off x="2398680" y="50749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ne of Austr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6200" y="129492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1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his reign in January 15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in 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152960"/>
            <a:ext cx="2238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haracteristics does Philip II posses that make him an absolute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Empire of Philip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ilip’s II Person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Read and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ly Religious - Catholic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rking, “workahol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oyed the Arts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dent - Mistrusted his own judgment and relied on the advice of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i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Divin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8153280" cy="52056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ilip II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4383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corial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side Pictures of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733920" cy="2589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33920" y="4373640"/>
            <a:ext cx="3878280" cy="24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784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list of 4 adjectives that you would use to describe Philip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288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8915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onquer Ita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II feared that the French would have control of the Mediterranean Sea and also; Muslim Turks would conquer Italy and eventually attack his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3786120"/>
            <a:ext cx="4419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66880"/>
            <a:ext cx="4038480" cy="30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ttle of Lep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ce/Spanish fleet defeated Turkish Navy; yet not able to drive from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38480" y="4000680"/>
            <a:ext cx="5105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tch Revo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United Provinces of the Netherla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71800" y="3573360"/>
            <a:ext cx="36576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28:21Z</dcterms:created>
  <dc:creator>Karen Doolittle</dc:creator>
  <dc:description/>
  <dc:language>en-US</dc:language>
  <cp:lastModifiedBy>Karen Doolittle</cp:lastModifiedBy>
  <dcterms:modified xsi:type="dcterms:W3CDTF">2003-09-17T09:44:44Z</dcterms:modified>
  <cp:revision>20</cp:revision>
  <dc:subject/>
  <dc:title>Slide 1</dc:title>
</cp:coreProperties>
</file>